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4707-B30D-4CF4-B7AB-B429416F5E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9A47-53CB-4A5B-B4CE-2299EAB94A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ние политических институтов на экономическую жизнь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дает основу для поддержания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демократии, правового государства, гражданск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ается возможность попасть под  власть безответственного работодателя или организации, предоставляется право вы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учится ответственному отношению к своему делу, окружающим, принятию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заинтересована в существовании в рамках правового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ыми единицами гражданского общества в экономической сфере являются частные предприятия, кооператив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D088-86B3-4348-9539-DF3130D38B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и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D908-DD64-401A-B4EF-184841C1D4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Экономическая деятельность создает материальную основу для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лияние процессов глобализации, происходящих в мировой экономике, на культу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63F0-1548-451B-A4C2-262C59C963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ние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CB72-CCD6-46D4-AFDE-5C0F93608C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а определяет творческую направленность экономической деятельности общества и людей в процессе производства и потреб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рактер и результативность производственной деятельности зависят от уровня развития экономически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убокое воздействие на экономику оказывает наука, которая стала главной движущей силой экономического прогр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левидение – важнейшее средство экономической информации. Например, телевизионная рекла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2F8F-0FB4-46A2-82B4-59FB470B16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Какая схема в большей мере отражает соотношение государства и экономической сферы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C709-A3FE-4946-B45C-EDC5A9F30B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кем соглас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Аристотель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«Цель государства – это совместное продвижение государства и экономических действий к высокому качеству жизн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нфуций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Когда государство управляется согласно с разумом, постыдны бедность и нужда ; когда государство не управляется согласно с разумом, то постыдны богатства и поче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DA4B-6EBB-4B3A-966B-4DE35DDECE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ень жизн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важнейший показатель и результат экономической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8E46-0835-4B84-A5C8-C24CFBFB2E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П – показатель уровня благосостояния , или уровня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ровень жизни в широком смыс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следующие показат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здоровья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неравномерности распределения доходов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житочный миним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ОН – индекс челове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ень благо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от соверше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х механиз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я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чины низкой эффективности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ревши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й уровень квалификации кад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очительное использование природных богат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2183-D916-4BC6-99FA-A2B8C8D6E3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ствие неэффективности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а бе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1480-F41E-4E67-A9BC-4BBE488412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и социальн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31FB-41E7-47E3-B9EC-626F2DB4A0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аимосвязь общей численности населения и темпов его роста с экономическим развитием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58E6-8EDA-4A9D-BBD2-D3555834C7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и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8541-3042-4119-88EB-94171D0207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 помощь рыночной экономике государство реализует следующие политически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Свободное развитие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циальная и экономическая категория. Чем выше ценится свобода отдельного человека в обществе, тем более значимой восприним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бода в государ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равовой поряд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равового порядка предусматривает прежде всего обеспечение с помощью законов права на собственность и ее защиту, на свободу предпринимательской деятельности, на систему хозяйственных догов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нешняя и внутренняя 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нститутов для поддержания общественного порядка в стране, а также наличие профессионально подготовленной армии, способной защитить страну от нападения изв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жнейшая задача государства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и поддержание в национальной экономике конкур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AC0B-A863-4422-BD93-AB091C69B7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государствен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олной занят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е распределение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иродного комплек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жнейшая функ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разработка оптимальной национальной стратегии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A3F4-1270-4E2E-A095-1ADE88DEDE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FDA-6B03-4075-9E0E-30DEB127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F583-E9FF-4318-97D8-EA0BC87D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0CE-907A-48E7-B146-F0253A21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5D57-07D2-4471-BA04-019FD8C6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EB47-7CCB-4327-BC00-56606706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80D-B740-4E55-B2F4-547FA35A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E6F8-191A-4E33-BEDB-14F8F716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003F-B704-4AF9-8D76-7B360BA7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C604-E2EF-4E9B-A986-50AE1F98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66CB-F7F1-474B-8C52-2E1F3971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6E0-15EB-4A8A-924F-7A8AE098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6EA-9907-4374-8D4D-182416AC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FE16-3ECB-45F3-A0EB-08836335136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DA1D-A896-4CA5-A1F7-A941633B84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с двумя скругленными противолежащими углами 5"/>
          <p:cNvSpPr/>
          <p:nvPr/>
        </p:nvSpPr>
        <p:spPr>
          <a:xfrm>
            <a:off x="1214280" y="1571760"/>
            <a:ext cx="6429600" cy="1643040"/>
          </a:xfrm>
          <a:custGeom>
            <a:avLst/>
            <a:gdLst/>
            <a:ahLst/>
            <a:rect l="l" t="t" r="r" b="b"/>
            <a:pathLst>
              <a:path w="6429375" h="1643063">
                <a:moveTo>
                  <a:pt x="273849" y="0"/>
                </a:moveTo>
                <a:lnTo>
                  <a:pt x="6429375" y="0"/>
                </a:lnTo>
                <a:lnTo>
                  <a:pt x="6429375" y="0"/>
                </a:lnTo>
                <a:lnTo>
                  <a:pt x="6429375" y="1369214"/>
                </a:lnTo>
                <a:cubicBezTo>
                  <a:pt x="6429375" y="1520457"/>
                  <a:pt x="6306769" y="1643063"/>
                  <a:pt x="6155526" y="1643063"/>
                </a:cubicBezTo>
                <a:lnTo>
                  <a:pt x="0" y="1643063"/>
                </a:lnTo>
                <a:lnTo>
                  <a:pt x="0" y="1643063"/>
                </a:lnTo>
                <a:lnTo>
                  <a:pt x="0" y="273849"/>
                </a:lnTo>
                <a:cubicBezTo>
                  <a:pt x="0" y="122606"/>
                  <a:pt x="122606" y="0"/>
                  <a:pt x="273849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2"/>
          <a:stretch/>
        </p:blipFill>
        <p:spPr>
          <a:xfrm>
            <a:off x="1335240" y="1798560"/>
            <a:ext cx="6175080" cy="24256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6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TextBox 5"/>
          <p:cNvGrpSpPr/>
          <p:nvPr/>
        </p:nvGrpSpPr>
        <p:grpSpPr>
          <a:xfrm>
            <a:off x="1085760" y="1133640"/>
            <a:ext cx="6326280" cy="1122120"/>
            <a:chOff x="1085760" y="1133640"/>
            <a:chExt cx="6326280" cy="1122120"/>
          </a:xfrm>
        </p:grpSpPr>
        <p:pic>
          <p:nvPicPr>
            <p:cNvPr id="128" name="TextBox 5" descr=""/>
            <p:cNvPicPr/>
            <p:nvPr/>
          </p:nvPicPr>
          <p:blipFill>
            <a:blip r:embed="rId2"/>
            <a:stretch/>
          </p:blipFill>
          <p:spPr>
            <a:xfrm>
              <a:off x="1085760" y="1133640"/>
              <a:ext cx="632628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143000" y="1214280"/>
              <a:ext cx="621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Влияние политических институтов на экономическую жизнь государ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Box 6"/>
          <p:cNvSpPr/>
          <p:nvPr/>
        </p:nvSpPr>
        <p:spPr>
          <a:xfrm>
            <a:off x="1571760" y="2214720"/>
            <a:ext cx="521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ыночная экономика дает основу для поддержания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демократии, правового государства, гражданского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285840" y="3286080"/>
            <a:ext cx="214308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кращается возможность попасть под  власть безответственного работодателя или организации, предоставляется право вы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2571840" y="3286080"/>
            <a:ext cx="164304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ловек учится ответственному отношению к своему делу, окружающим, принятию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4357800" y="3286080"/>
            <a:ext cx="157140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ыночная экономика заинтересована в существовании в рамках правового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6143760" y="3286080"/>
            <a:ext cx="242892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уктурными единицами гражданского общества в экономической сфере являются частные предприятия, кооперативы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8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TextBox 5" descr=""/>
          <p:cNvPicPr/>
          <p:nvPr/>
        </p:nvPicPr>
        <p:blipFill>
          <a:blip r:embed="rId2"/>
          <a:stretch/>
        </p:blipFill>
        <p:spPr>
          <a:xfrm>
            <a:off x="500040" y="1652760"/>
            <a:ext cx="7431120" cy="26272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3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428760" y="1071720"/>
            <a:ext cx="7072200" cy="94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Экономическая деятельность создает материальную основу для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785880" y="2214720"/>
            <a:ext cx="142884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2357280" y="2714760"/>
            <a:ext cx="157176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3786120" y="2143080"/>
            <a:ext cx="178596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5643720" y="2571840"/>
            <a:ext cx="171432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285840" y="3786120"/>
            <a:ext cx="835812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Влияние процессов глобализации, происходящих в мировой экономике, на культ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1714680" y="4929120"/>
            <a:ext cx="5286240" cy="11912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Стирание культурных разли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Культур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Культурный об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4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 6" descr=""/>
          <p:cNvPicPr/>
          <p:nvPr/>
        </p:nvPicPr>
        <p:blipFill>
          <a:blip r:embed="rId2"/>
          <a:stretch/>
        </p:blipFill>
        <p:spPr>
          <a:xfrm>
            <a:off x="500040" y="1652760"/>
            <a:ext cx="7431120" cy="26272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785880" y="1571760"/>
            <a:ext cx="7072200" cy="916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ультура определяет творческую направленность экономической деятельности общества и людей в процессе производства и 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785880" y="2928960"/>
            <a:ext cx="707220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арактер и результативность производственной деятельности зависят от уровня развития экономических 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714240" y="4000680"/>
            <a:ext cx="714384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лубокое воздействие на экономику оказывает наука, которая стала главной движущей силой экономического прогр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714240" y="5000760"/>
            <a:ext cx="714384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левидение – важнейшее средство экономической информации. Например, телевизио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7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Схема 5" descr=""/>
          <p:cNvPicPr/>
          <p:nvPr/>
        </p:nvPicPr>
        <p:blipFill>
          <a:blip r:embed="rId2"/>
          <a:stretch/>
        </p:blipFill>
        <p:spPr>
          <a:xfrm>
            <a:off x="274680" y="609480"/>
            <a:ext cx="7534080" cy="944640"/>
          </a:xfrm>
          <a:prstGeom prst="rect">
            <a:avLst/>
          </a:prstGeom>
          <a:ln w="0">
            <a:noFill/>
          </a:ln>
        </p:spPr>
      </p:pic>
      <p:sp>
        <p:nvSpPr>
          <p:cNvPr id="169" name="Овал 7"/>
          <p:cNvSpPr/>
          <p:nvPr/>
        </p:nvSpPr>
        <p:spPr>
          <a:xfrm>
            <a:off x="214200" y="1714680"/>
            <a:ext cx="2643480" cy="71424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8"/>
          <p:cNvSpPr/>
          <p:nvPr/>
        </p:nvSpPr>
        <p:spPr>
          <a:xfrm>
            <a:off x="2928960" y="1714680"/>
            <a:ext cx="2786040" cy="642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9"/>
          <p:cNvSpPr/>
          <p:nvPr/>
        </p:nvSpPr>
        <p:spPr>
          <a:xfrm>
            <a:off x="500040" y="3500280"/>
            <a:ext cx="2286000" cy="78588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10"/>
          <p:cNvSpPr/>
          <p:nvPr/>
        </p:nvSpPr>
        <p:spPr>
          <a:xfrm>
            <a:off x="2500200" y="3429000"/>
            <a:ext cx="2214720" cy="785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1"/>
          <p:cNvSpPr/>
          <p:nvPr/>
        </p:nvSpPr>
        <p:spPr>
          <a:xfrm>
            <a:off x="500040" y="5072040"/>
            <a:ext cx="2928960" cy="1214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12"/>
          <p:cNvSpPr/>
          <p:nvPr/>
        </p:nvSpPr>
        <p:spPr>
          <a:xfrm>
            <a:off x="1714680" y="5357880"/>
            <a:ext cx="1714320" cy="57132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осуд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13"/>
          <p:cNvSpPr/>
          <p:nvPr/>
        </p:nvSpPr>
        <p:spPr>
          <a:xfrm>
            <a:off x="5214960" y="2643120"/>
            <a:ext cx="3214800" cy="107172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15"/>
          <p:cNvSpPr/>
          <p:nvPr/>
        </p:nvSpPr>
        <p:spPr>
          <a:xfrm>
            <a:off x="6643800" y="2786040"/>
            <a:ext cx="1785960" cy="642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16"/>
          <p:cNvSpPr/>
          <p:nvPr/>
        </p:nvSpPr>
        <p:spPr>
          <a:xfrm>
            <a:off x="4857840" y="4357800"/>
            <a:ext cx="2571840" cy="8571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17"/>
          <p:cNvSpPr/>
          <p:nvPr/>
        </p:nvSpPr>
        <p:spPr>
          <a:xfrm>
            <a:off x="5000760" y="4929120"/>
            <a:ext cx="235728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TextBox 6" descr=""/>
          <p:cNvPicPr/>
          <p:nvPr/>
        </p:nvPicPr>
        <p:blipFill>
          <a:blip r:embed="rId2"/>
          <a:stretch/>
        </p:blipFill>
        <p:spPr>
          <a:xfrm>
            <a:off x="573120" y="725400"/>
            <a:ext cx="7431120" cy="17128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571680" y="2214720"/>
            <a:ext cx="692928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ристотель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«Цель государства – это совместное продвижение государства и экономических действий к высокому качеству жиз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714240" y="4357800"/>
            <a:ext cx="7929720" cy="1557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нфуций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огда государство управляется согласно с разумом, постыдны бедность и нужда ; когда государство не управляется согласно с разумом, то постыдны богатства и поче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1000080" y="857160"/>
            <a:ext cx="621504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ень жиз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важнейший показатель и результат экономической жизни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928800" y="1928880"/>
            <a:ext cx="6500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добиться высокого уровня развития и процвет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1000080" y="2571840"/>
            <a:ext cx="64296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ень жиз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степень обеспечения населения товарами и услугами, необходимыми для комфортного и безопасного суще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857160" y="3714840"/>
            <a:ext cx="300060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ая точка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хват в процессе войн территорий и богатства других народов с богатыми ресур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4572000" y="3714840"/>
            <a:ext cx="307188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торая точка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Самый бе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тот, кто не умеет пользоваться тем, чем располагает» (П. Буа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10"/>
          <p:cNvCxnSpPr/>
          <p:nvPr/>
        </p:nvCxnSpPr>
        <p:spPr>
          <a:xfrm>
            <a:off x="4070880" y="1571760"/>
            <a:ext cx="108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13"/>
          <p:cNvCxnSpPr/>
          <p:nvPr/>
        </p:nvCxnSpPr>
        <p:spPr>
          <a:xfrm>
            <a:off x="4070880" y="228600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16"/>
          <p:cNvCxnSpPr/>
          <p:nvPr/>
        </p:nvCxnSpPr>
        <p:spPr>
          <a:xfrm flipH="1">
            <a:off x="2069280" y="3501720"/>
            <a:ext cx="2520" cy="2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Прямая со стрелкой 18"/>
          <p:cNvCxnSpPr/>
          <p:nvPr/>
        </p:nvCxnSpPr>
        <p:spPr>
          <a:xfrm flipH="1">
            <a:off x="6286320" y="3500280"/>
            <a:ext cx="2160" cy="21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TextBox 19"/>
          <p:cNvSpPr/>
          <p:nvPr/>
        </p:nvSpPr>
        <p:spPr>
          <a:xfrm>
            <a:off x="1285920" y="5357880"/>
            <a:ext cx="6143760" cy="642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 на душу населе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казатель эффективного развития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21"/>
          <p:cNvCxnSpPr/>
          <p:nvPr/>
        </p:nvCxnSpPr>
        <p:spPr>
          <a:xfrm flipH="1">
            <a:off x="2641320" y="5216040"/>
            <a:ext cx="2160" cy="143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Прямая со стрелкой 23"/>
          <p:cNvCxnSpPr/>
          <p:nvPr/>
        </p:nvCxnSpPr>
        <p:spPr>
          <a:xfrm flipH="1">
            <a:off x="5928480" y="5214600"/>
            <a:ext cx="1080" cy="14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2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357120" y="1071720"/>
            <a:ext cx="7429680" cy="398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ВП – показатель уровня благосостояния , или уровня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928800" y="1714680"/>
            <a:ext cx="6858000" cy="2319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овень жизни в широком смыс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ключает следующие показа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здоровья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ояние окруж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епень неравномерности распределения доходов в общ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упность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житочный миним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ОН – индекс человеческ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357120" y="4357800"/>
            <a:ext cx="335772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ень благо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исит от соверш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ономических механизм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деления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еци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ргов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3929040" y="4357800"/>
            <a:ext cx="435780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чины низкой эффективности эконом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ревши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зкий уровень квалификации кад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точительное использование природных богат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1214280" y="1500120"/>
            <a:ext cx="6215400" cy="7038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ствие неэффективности эконом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рта б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1571760" y="2428920"/>
            <a:ext cx="5357520" cy="1008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овень экономическ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о влия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уровень жизн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Прямая со стрелкой 7"/>
          <p:cNvCxnSpPr/>
          <p:nvPr/>
        </p:nvCxnSpPr>
        <p:spPr>
          <a:xfrm flipH="1">
            <a:off x="4285440" y="2214360"/>
            <a:ext cx="252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TextBox 8"/>
          <p:cNvSpPr/>
          <p:nvPr/>
        </p:nvSpPr>
        <p:spPr>
          <a:xfrm>
            <a:off x="1214280" y="4357800"/>
            <a:ext cx="650088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во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ловия и способы перехода России к рыночной экономике превратили бедность в серьезную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ное условие ее решения – экономический ро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10"/>
          <p:cNvCxnSpPr/>
          <p:nvPr/>
        </p:nvCxnSpPr>
        <p:spPr>
          <a:xfrm flipH="1">
            <a:off x="4285440" y="3429000"/>
            <a:ext cx="2520" cy="929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324000" y="1378080"/>
            <a:ext cx="7503840" cy="23828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4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00040" y="1428840"/>
            <a:ext cx="2928960" cy="2014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ономика влия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уровень рождаем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виси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материальных бла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ения жиль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епени вовлеч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нщин в произв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642960" y="642960"/>
            <a:ext cx="607212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освязь общей численности населения и темпов его роста с экономическим развитием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3857760" y="1428840"/>
            <a:ext cx="2857320" cy="2014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родонаселение влия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уровень эконом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вис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общей численности насе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тности насе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мпов роста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Прямая со стрелкой 8"/>
          <p:cNvCxnSpPr/>
          <p:nvPr/>
        </p:nvCxnSpPr>
        <p:spPr>
          <a:xfrm flipH="1">
            <a:off x="3569400" y="1500120"/>
            <a:ext cx="2520" cy="1858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99" name="Прямая со стрелкой 10"/>
          <p:cNvCxnSpPr/>
          <p:nvPr/>
        </p:nvCxnSpPr>
        <p:spPr>
          <a:xfrm flipV="1">
            <a:off x="3711960" y="1499760"/>
            <a:ext cx="2520" cy="19310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00" name="TextBox 11"/>
          <p:cNvSpPr/>
          <p:nvPr/>
        </p:nvSpPr>
        <p:spPr>
          <a:xfrm>
            <a:off x="571680" y="3714840"/>
            <a:ext cx="60721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освязь экономики и состояния здоровья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571680" y="4357800"/>
            <a:ext cx="307152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ая 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актор хорошего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4000680" y="4357800"/>
            <a:ext cx="4214520" cy="916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абое состояние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жение производительности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кращение продолжительности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6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6" descr=""/>
          <p:cNvPicPr/>
          <p:nvPr/>
        </p:nvPicPr>
        <p:blipFill>
          <a:blip r:embed="rId2"/>
          <a:stretch/>
        </p:blipFill>
        <p:spPr>
          <a:xfrm>
            <a:off x="360360" y="1365120"/>
            <a:ext cx="7424640" cy="26272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1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857160" y="714240"/>
            <a:ext cx="621504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В помощь рыночной экономике государство реализует следующие политические 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285840" y="1857240"/>
            <a:ext cx="2643120" cy="3385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Свободное развитие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социальная и экономическая категория. Чем выше ценится свобода отдельного человека в обществе, тем более значимой воспринимаетс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вобода в государ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3071880" y="1857240"/>
            <a:ext cx="2928960" cy="283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Правовой поря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е правового порядка предусматривает прежде всего обеспечение с помощью законов права на собственность и ее защиту, на свободу предпринимательской деятельности, на систему хозяйственных до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6143760" y="1857240"/>
            <a:ext cx="2714400" cy="3111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Внешняя и внутренняя 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е институтов для поддержания общественного порядка в стране, а также наличие профессионально подготовленной армии, способной защитить страну от нападения из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642960" y="5572080"/>
            <a:ext cx="800100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жнейшая задача государств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храна и поддержание в национальной экономике конкуре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928800" y="1357200"/>
            <a:ext cx="6858000" cy="18003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 государственной полит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спечение полной занят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раведливое распределение дохо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щита природного комплек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857160" y="3643200"/>
            <a:ext cx="7500960" cy="13737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ажнейшая функц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разработка оптимальной национальной стратегии эконом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7:44:06Z</dcterms:created>
  <dc:creator>Марина</dc:creator>
  <dc:description/>
  <dc:language>en-US</dc:language>
  <cp:lastModifiedBy>LEGION</cp:lastModifiedBy>
  <dcterms:modified xsi:type="dcterms:W3CDTF">2014-11-10T10:50:10Z</dcterms:modified>
  <cp:revision>14</cp:revision>
  <dc:subject/>
  <dc:title>Слайд 1</dc:title>
</cp:coreProperties>
</file>